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2DFD-6A27-4AC3-A94F-2C6A0D87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5640" y="146160"/>
            <a:ext cx="81727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735200"/>
            <a:ext cx="7162560" cy="21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4093200"/>
            <a:ext cx="7162560" cy="21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86E5-189C-4D0B-A427-EB9B3364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5640" y="146160"/>
            <a:ext cx="81727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735200"/>
            <a:ext cx="3495240" cy="21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1280" y="1735200"/>
            <a:ext cx="3495240" cy="21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4093200"/>
            <a:ext cx="3495240" cy="21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1280" y="4093200"/>
            <a:ext cx="3495240" cy="21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17BD-383A-4A30-8391-5D935731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5640" y="146160"/>
            <a:ext cx="81727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735200"/>
            <a:ext cx="2306160" cy="21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2440" y="1735200"/>
            <a:ext cx="2306160" cy="21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34520" y="1735200"/>
            <a:ext cx="2306160" cy="21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4093200"/>
            <a:ext cx="2306160" cy="21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2440" y="4093200"/>
            <a:ext cx="2306160" cy="21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34520" y="4093200"/>
            <a:ext cx="2306160" cy="21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C78F-BBE9-47E1-B9CD-99392B9A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5640" y="146160"/>
            <a:ext cx="81727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735200"/>
            <a:ext cx="7162560" cy="45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35D4-9D82-469F-8AC1-ED233B82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5640" y="146160"/>
            <a:ext cx="81727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35200"/>
            <a:ext cx="7162560" cy="451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59A0-F3E3-4827-8B19-32F47ECE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5640" y="146160"/>
            <a:ext cx="81727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735200"/>
            <a:ext cx="3495240" cy="451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1280" y="1735200"/>
            <a:ext cx="3495240" cy="451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7B4A-939C-4F51-9894-93B74B55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5640" y="146160"/>
            <a:ext cx="81727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98C5-FA45-4446-8EB3-9B30A60A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5640" y="146160"/>
            <a:ext cx="817272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20B4-D187-4EC2-A092-CA32902D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5640" y="146160"/>
            <a:ext cx="81727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735200"/>
            <a:ext cx="3495240" cy="21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1280" y="1735200"/>
            <a:ext cx="3495240" cy="451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4093200"/>
            <a:ext cx="3495240" cy="21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9B0E-0081-472E-8A81-EA31E770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5640" y="146160"/>
            <a:ext cx="81727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735200"/>
            <a:ext cx="3495240" cy="451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280" y="1735200"/>
            <a:ext cx="3495240" cy="21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1280" y="4093200"/>
            <a:ext cx="3495240" cy="21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C1A0-D7B8-4634-9C27-FE9A57BF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5640" y="146160"/>
            <a:ext cx="81727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735200"/>
            <a:ext cx="3495240" cy="21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1280" y="1735200"/>
            <a:ext cx="3495240" cy="21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093200"/>
            <a:ext cx="7162560" cy="21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5C71-19C0-4AE3-BD4C-F792B5BC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0E1B-DACA-460F-B2E8-E50BAA309A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85640" y="146160"/>
            <a:ext cx="81727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735200"/>
            <a:ext cx="7162560" cy="451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46840" indent="-546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61920" indent="-3016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57560" indent="-2829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753560" indent="-282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168640" indent="-30132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168640" indent="-3013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168640" indent="-3013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289080" y="6324480"/>
            <a:ext cx="856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ahoma"/>
              </a:rPr>
              <a:t>DevCon 1999 - Orlan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557000"/>
            <a:ext cx="777240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Indexes…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the “Key” to Database Design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880" y="3733560"/>
            <a:ext cx="8229600" cy="99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an Zenrei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S&amp;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5640" y="145800"/>
            <a:ext cx="81727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imes New Roman"/>
              </a:rPr>
              <a:t>Microsoft SQL Server indexes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735200"/>
            <a:ext cx="7162560" cy="20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QL Server specific index fea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lustered vs. non-cluste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dex tuning to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5640" y="145800"/>
            <a:ext cx="81727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imes New Roman"/>
              </a:rPr>
              <a:t>Using surrogate keys in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imes New Roman"/>
              </a:rPr>
              <a:t>Microsoft Access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734840"/>
            <a:ext cx="7162560" cy="15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lationship wind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atasheet 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mbo boxes in for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5640" y="447480"/>
            <a:ext cx="81727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Summary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734840"/>
            <a:ext cx="7162560" cy="5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-30600"/>
            <a:ext cx="8172360" cy="136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imes New Roman"/>
              </a:rPr>
              <a:t>Introduction</a:t>
            </a:r>
            <a:br>
              <a:rPr sz="4400"/>
            </a:b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30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71640" indent="-3049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What is an index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1640" indent="-3049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Why index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2858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lational dem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2858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Unique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2858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1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057320" y="3581280"/>
            <a:ext cx="20304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2976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Performance 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62920" cy="99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71640" indent="-3049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erformance,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1640" indent="-3049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othing is fr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1057320" y="3581280"/>
            <a:ext cx="20304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27000" y="3581280"/>
            <a:ext cx="18432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17236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imes New Roman"/>
              </a:rPr>
              <a:t>Keys…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809640" y="1314360"/>
            <a:ext cx="1951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3160" y="5581800"/>
            <a:ext cx="8076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1625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rimary Ke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oreign K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econdary Ind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hoosing the primary k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640" y="447480"/>
            <a:ext cx="81727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imes New Roman"/>
              </a:rPr>
              <a:t>Surrogate vs. Natural keys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162560" cy="472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atural keys exist in the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1640" indent="-3049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ingle versus multi-field ke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urrogate keys are system gener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K is an “Invariant Record Identifier”,  usually an auto-number or identity fie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ata typ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fere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5640" y="447480"/>
            <a:ext cx="81727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Using SKs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735200"/>
            <a:ext cx="7162560" cy="351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Why use SKs?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K, so if nothing is free, what are the costs associated with using S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1640" indent="-3049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umbers, numbers,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1640" indent="-3049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pplication unique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1640" indent="-3049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ata en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5640" y="145800"/>
            <a:ext cx="81727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imes New Roman"/>
              </a:rPr>
              <a:t>So what’s the big deal about using Surrogate keys?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734840"/>
            <a:ext cx="7162560" cy="292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hings don’t change until they 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ocial security numbers, employe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tock ticker symb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ulti-field natural ke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5640" y="447480"/>
            <a:ext cx="81727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imes New Roman"/>
              </a:rPr>
              <a:t>Schema design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734840"/>
            <a:ext cx="7162560" cy="459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ach table has an SK field as the primary k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oreign keys are table name &amp; S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neumonic keys are used for data en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Use secondary indexes to assure entity integ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reate “cover” indexes for important que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85640" y="112320"/>
            <a:ext cx="8172720" cy="136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imes New Roman"/>
              </a:rPr>
              <a:t>J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imes New Roman"/>
              </a:rPr>
              <a:t>indexes</a:t>
            </a:r>
            <a:br>
              <a:rPr sz="4400"/>
            </a:b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735200"/>
            <a:ext cx="7162560" cy="20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anaging from within MS A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ferential integrity and ind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-552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2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7T20:00:32Z</dcterms:created>
  <dc:creator/>
  <dc:description/>
  <dc:language>en-US</dc:language>
  <cp:lastModifiedBy>Alan Zenreich</cp:lastModifiedBy>
  <cp:lastPrinted>1997-06-17T20:25:50Z</cp:lastPrinted>
  <dcterms:modified xsi:type="dcterms:W3CDTF">1999-05-10T17:49:26Z</dcterms:modified>
  <cp:revision>56</cp:revision>
  <dc:subject/>
  <dc:title>DevCon 1999 - Orlando 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DevCon\Templates\DevCon1999Templates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